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5989-1D3A-4387-B40C-3AEB1FCFF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E133-B79B-4EFB-A6CD-182E94DA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5767-848D-495A-ABAC-BA5D1ED9F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E4D6-E44A-4329-B1EF-C9D9679D0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0244-A84B-4711-8BD3-7FDB64B8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AB98-7086-4901-87A7-6097D718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C71A-4F24-406C-B6BA-551E7D91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A035-89A5-4301-A5FC-BB07E1E4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5463-696C-4D57-A94B-1BC5FF0B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9A27-D8F0-4D06-A296-1E4FCCED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859E-F989-4275-B392-844D3445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99D7-E150-41AB-861F-07B95B6D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1816-AE3C-4208-B172-2DBEB412C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ckbar"/>
              </a:rPr>
              <a:t>2nd Grade GPS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ckbar"/>
              </a:rPr>
              <a:t>Math Framework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ckbar"/>
              </a:rPr>
              <a:t>2nd Grade GPS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ckbar"/>
              </a:rPr>
              <a:t>Scienc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ckbar"/>
              </a:rPr>
              <a:t>Framework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ckbar"/>
              </a:rPr>
              <a:t>2nd Grade GPS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ckbar"/>
              </a:rPr>
              <a:t>Social Studi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ckbar"/>
              </a:rPr>
              <a:t>Framework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ckbar"/>
              </a:rPr>
              <a:t>2nd Grade GPS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ckbar"/>
              </a:rPr>
              <a:t>EL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ckbar"/>
              </a:rPr>
              <a:t>Framework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17:33:37Z</dcterms:created>
  <dc:creator>Abby Owens</dc:creator>
  <dc:description/>
  <dc:language>en-US</dc:language>
  <cp:lastModifiedBy>Abby Owens</cp:lastModifiedBy>
  <dcterms:modified xsi:type="dcterms:W3CDTF">2010-05-28T17:36:49Z</dcterms:modified>
  <cp:revision>1</cp:revision>
  <dc:subject/>
  <dc:title>2nd Grade GPS </dc:title>
</cp:coreProperties>
</file>